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172-6CB4-4173-8A3D-262B066E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67C-51B0-43C0-AFB2-5CCCA64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F57-5EC0-406E-8B61-F02ED9B5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3D6-934C-46E3-8419-060ACCC2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A6C-B3A6-4253-AF5F-966713D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A65-FED4-4D94-B1A1-9A98ABE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E1C-3D5E-469D-B1D1-C2F4BF8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FFF-30B7-4771-87D5-6A2EF0C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108-BF6D-4223-8728-931A0689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301-36A0-448E-BCA8-DC7CFD4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42D-EC3C-42CC-A075-C3CB682C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4A-28B0-4E2D-86E0-1D48FA89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720A-7274-4353-AB8E-C7053CF388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commons/1/11/Melbourne_Skyline_and_Princes_Bridge_-_Dec_2008.jpg&amp;imgrefurl=http://commons.wikimedia.org/wiki/File:Melbourne_Skyline_and_Princes_Bridge_-_Dec_2008.jpg&amp;usg=__P2qhKIfW2bJvISVHrduB2tEaNlA=&amp;h=1500&amp;w=2250&amp;sz=2474&amp;hl=en&amp;start=4&amp;tbnid=Ip7gseSI8hvVvM:&amp;tbnh=100&amp;tbnw=150&amp;prev=/images%3Fq%3DMelbourne%2Bskyline%26gbv%3D2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c.net.au/reslib/200902/r344358_1570479.jpg&amp;imgrefurl=http://www.abc.net.au/news/photos/2009/02/27/2503748.htm&amp;usg=__j_WRGZfWaBmR2uLoWR8VaeM7Rsw=&amp;h=600&amp;w=599&amp;sz=50&amp;hl=en&amp;start=10&amp;um=1&amp;tbnid=rUGJCMUN_xQfUM:&amp;tbnh=135&amp;tbnw=135&amp;prev=/images%3Fq%3DDame%2BElisabeth%2BMurdoch%26hl%3Den%26safe%3Dactive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farm1.static.flickr.com/53/141810407_b72a72a65d.jpg%3Fv%3D0&amp;imgrefurl=http://flickr.com/photos/38836978%40N00/141810407/&amp;usg=__yak0_ATJOHiiHvPjFd_IvJtPi54=&amp;h=375&amp;w=500&amp;sz=151&amp;hl=en&amp;start=9&amp;um=1&amp;tbnid=ewsVKSmtp0vh1M:&amp;tbnh=98&amp;tbnw=130&amp;prev=/images%3Fq%3DCollin%2BSt%26hl%3Den%26safe%3Dactive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bn0.google.com/images?q=tbn:Ip7gseSI8hvVvM:http://upload.wikimedia.org/wikipedia/commons/1/11/Melbourne_Skyline_and_Princes_Bridge_-_Dec_20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00b0f0"/>
                </a:solidFill>
                <a:latin typeface="Forte"/>
              </a:rPr>
              <a:t>Melbourne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2884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e46c0a"/>
                </a:solidFill>
                <a:latin typeface="Calibri"/>
              </a:rPr>
              <a:t>By Holly McCoom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tbn1.google.com/images?q=tbn:rUGJCMUN_xQfUM:http://www.abc.net.au/reslib/200902/r344358_157047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95b3d7"/>
                </a:solidFill>
                <a:latin typeface="Calibri"/>
              </a:rPr>
              <a:t>Dame Elisabeth Murdoc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alibri"/>
              </a:rPr>
              <a:t>She was born in February 1909 in Armadale Victoria. She is a Philanthropist. She was well known for her never ending charitable work. She in total supports 110 charities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tbn1.google.com/images?q=tbn:ewsVKSmtp0vh1M:http://farm1.static.flickr.com/53/141810407_b72a72a65d.jpg%3Fv%3D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7030a0"/>
                </a:solidFill>
                <a:latin typeface="Calibri"/>
              </a:rPr>
              <a:t>Collins 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b050"/>
                </a:solidFill>
                <a:latin typeface="Calibri"/>
              </a:rPr>
              <a:t>Collins Street was named after Lieutenant-Governor David Collins who led an expedition to Port Phillip B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bn2.google.com/images?q=tbn:KI9uvxxF70-0KM:http://farm4.static.flickr.com/3050/2688567677_25f7fbca6f.jpg%3Fv%3D0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e46c0a"/>
                </a:solidFill>
                <a:latin typeface="Calibri"/>
              </a:rPr>
              <a:t>Parliament House.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3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c000"/>
                </a:solidFill>
                <a:latin typeface="Calibri"/>
              </a:rPr>
              <a:t>In 1853 there was a competition held to design a new Parliament House. By 1855 they decided on a  design  for the parliament hou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Royal Exhibition Building before 1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70c0"/>
                </a:solidFill>
                <a:latin typeface="Calibri"/>
              </a:rPr>
              <a:t>Royal Exhibition Cent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77933c"/>
                </a:solidFill>
                <a:latin typeface="Calibri"/>
              </a:rPr>
              <a:t>The Exhibition Building was opened in 1880 for the Melbourne International Exhibition of 1880-81.  The architect was Joseph Reed</a:t>
            </a:r>
            <a:r>
              <a:rPr b="0" lang="en-AU" sz="4800" spc="-1" strike="noStrike">
                <a:solidFill>
                  <a:srgbClr val="00b050"/>
                </a:solidFill>
                <a:latin typeface="Calibri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45Z</dcterms:created>
  <dc:creator>Education</dc:creator>
  <dc:description/>
  <dc:language>en-US</dc:language>
  <cp:lastModifiedBy>Education</cp:lastModifiedBy>
  <dcterms:modified xsi:type="dcterms:W3CDTF">2009-07-14T05:06:57Z</dcterms:modified>
  <cp:revision>9</cp:revision>
  <dc:subject/>
  <dc:title>Melbourne</dc:title>
</cp:coreProperties>
</file>